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4C2-1CFA-4684-97C3-74EDCABC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CB7-DD6E-4EB7-8844-AB12CD7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4EC-5901-4547-8C0B-8CEFE411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831-0196-4FCE-B887-B18C9C7F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471E5-B631-499A-B68F-3465D997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A9972-1907-4D83-9C5B-7A1B4D7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D0004-CE5B-4CF1-8A1D-D3975836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9E5CF-59E0-4209-BD9C-1A643E6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64A58-6AAA-48E6-BE3A-58BA029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EE6A-85E5-4F64-BA1F-EE37D45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7E7F7-5BA9-4764-8DF2-14DD49B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550-1FF2-4C88-9392-EA0D283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5C1A5-DADA-48E2-8916-BC2FCF3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D922-B731-4A67-BED0-A8F4B28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EB8BF-A9CE-4D2B-9E58-51AAF84E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445B-8E24-4131-A6EC-D46A35AC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EE8C4-AFCA-4555-8B67-5176AA4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C7A-CBE9-45E7-B327-DA584F9E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AE6-FCFD-4B81-AA6D-E607148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ED1-43ED-4FF7-8FED-325277F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165-811C-4071-A146-52EF529B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830-F8C1-4300-B684-C815868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FAB-3E48-4C17-A4C0-5CCC5A3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CC6-A24B-4EA6-8049-F636495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94D-76F8-480C-BFE3-576A8A89EF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7DE-4B8B-4A43-87F5-7F518EA640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der como juicio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Como Juic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válido en un dominio especí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 por sus consecuencias evaluadas por un observador. En este sentido es siempre pote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de carácter temporal y 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de tener o no fund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ene estándar , en el sentido que hay grados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flexiones adicionales del pod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en el área ch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Emociones; temor, osadía, ansiedad, confianza, ingenuidad, autoestima, focalización,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terpretaciones; intereses , quiebres, preocupaciones, discursos y ética de los involucr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Habilidades conversacionales;  conv. para la acción, conv. de especulación, conv. para tener conversacion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de las re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dividuos de la red y la relación que los une; intereses, aportes y ética que los convo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Prácticas y protocolos de relación; modos de ingresar a la red, como se desarrolla poder dentro de ella, conductas sancionadas y deseadas, modos de salir de la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dentificación de otras redes y la relación con ellas. Puntos de encuentro y desencuen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5:04Z</dcterms:modified>
  <cp:revision>17</cp:revision>
  <dc:subject/>
  <dc:title>PODER ÉTICA Y GESTIÓN</dc:title>
</cp:coreProperties>
</file>